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C9B5-49ED-4CBE-B229-5357084B3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3FFB-3BDF-42FF-8461-23797D97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384A-9F56-4420-A3CE-0974EB2B2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0E70-98EF-4733-9EE5-959F278FE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EFCC-B264-4649-B1E1-F483DD20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D5EA-8F99-4561-B002-20928F71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5DFC-3D0D-4B36-AC31-593D1A57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CDB6-E3E9-4121-A65E-4B8DE430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1FBD-D4BD-4C21-9DCC-6714408C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004D-FAF9-4E36-B047-AF0D99FE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07B2-0629-48AE-9947-39E7A26B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853F-20C8-4B00-91DA-F80AE7C2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BDFB-D370-43DC-A951-FF29ECCA1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a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133720" y="1600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Jake Erde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2514600"/>
            <a:ext cx="518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95480" y="22096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Es una mansi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  <a:ea typeface="Arial"/>
              </a:rPr>
              <a:t>ó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95480" y="25909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Es muy grande y moder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 Coc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11430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Es una coci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6480" y="2093760"/>
            <a:ext cx="519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60020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38280" y="1600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Es,nueva,lujoso,estupe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 Comedo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38280" y="15238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Es una comed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1981080"/>
            <a:ext cx="396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19810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La comedor es muy lujoso y boni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 sa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00400" y="12952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Es una s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175248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La sala es muy grande y incred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  <a:ea typeface="Arial"/>
              </a:rPr>
              <a:t>í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b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12193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una b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16002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muy bonito y mod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Cuar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1295280"/>
            <a:ext cx="396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95480" y="129528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un cuar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71800" y="16765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cuarto es muy bonito y impresion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pat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12193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una pat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167652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05320" y="167652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nueva, magnifica, mod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ardi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95480" y="129528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81280" y="16002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,nueva,magnifica,y gr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12193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 una jard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gar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71800" y="1447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una gara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1905120"/>
            <a:ext cx="358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muy lujoso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fabulo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3:17:50Z</dcterms:created>
  <dc:creator>erdeltjak</dc:creator>
  <dc:description/>
  <dc:language>en-US</dc:language>
  <cp:lastModifiedBy>erdeltjak</cp:lastModifiedBy>
  <dcterms:modified xsi:type="dcterms:W3CDTF">2013-04-11T18:12:00Z</dcterms:modified>
  <cp:revision>6</cp:revision>
  <dc:subject/>
  <dc:title>La Casa</dc:title>
</cp:coreProperties>
</file>